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64F0-6C50-4762-B5CC-9B9D59B8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2F98-65A7-4576-9BD1-049337F3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176A-4B1C-4157-A42E-AB732B43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544-5288-4F25-8DDF-9285B3E2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ED73-8E89-4676-8465-10A7BB3A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907A-9CE2-4161-9835-5D829C68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FCD1-0E42-4EB4-AAF3-55D0E7A4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74F4-2D34-4267-B0E6-98014AF6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EFED-2F8D-43DB-99DB-C0CCCB8B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8D77-0FF5-468B-9CB4-986564EB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D80A-BBC6-4F36-A67D-A42A7F53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65B3-920F-4435-8136-E57A6060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351C-41DB-4AF6-91CE-2DEF50A1A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a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grayscl/>
            <a:lum contrast="-12000"/>
          </a:blip>
          <a:srcRect l="26496" t="67263" r="21116" b="31042"/>
          <a:stretch/>
        </p:blipFill>
        <p:spPr>
          <a:xfrm>
            <a:off x="6218280" y="3357720"/>
            <a:ext cx="1401840" cy="4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Elev</cp:lastModifiedBy>
  <dcterms:modified xsi:type="dcterms:W3CDTF">2012-06-19T11:18:06Z</dcterms:modified>
  <cp:revision>30</cp:revision>
  <dc:subject/>
  <dc:title>SALARIUL</dc:title>
</cp:coreProperties>
</file>